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12.jpeg" ContentType="image/jpeg"/>
  <Override PartName="/ppt/media/image13.png" ContentType="image/png"/>
  <Override PartName="/ppt/media/image7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2.png" ContentType="image/png"/>
  <Override PartName="/ppt/media/image15.png" ContentType="image/png"/>
  <Override PartName="/ppt/media/image3.jpeg" ContentType="image/jpeg"/>
  <Override PartName="/ppt/media/image4.png" ContentType="image/png"/>
  <Override PartName="/ppt/media/image6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1FEB4-9322-494A-8B50-E7782B0F5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14BDB-586C-4FF2-ABCB-9417D215F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1159E-AC5F-4661-8602-D502274CD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9F122-9521-4710-BB4C-0AD09C11C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F337C-7841-4986-A7A4-1C28FDE4B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631E9-9686-4FD4-8A8D-F953BBA79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9C3E1-3F67-4012-BB70-E4347AD61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BC025-5DB7-40DE-9ED6-946AA3043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C8D76-9062-449E-80C9-555DE71F2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AF970-BD67-484E-9F2B-ABB4BB7F1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7EFB4-611B-4C2B-A10B-5AA9B0539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9B558-8482-4717-BCFD-5E62C00B0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1AB1C-E5AA-460A-A5D4-E0C5E06EF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1036B-2C40-444A-9F67-3752E42DC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D0ACB-AFDB-4745-BEC1-60181CE46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B98C6-0D58-4E73-A2B9-8915ED935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27245-7B54-405B-BACC-5E7359B79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CB9042-9037-4BC7-928B-46DA48C2F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50CC07-2EBF-4BB4-8C7D-271F3137B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56B2B3-3235-4F15-A92F-5ED52A5BD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D37965-CC69-4BFF-BAB1-3079C0909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7387FF-DB9E-42DD-976E-7B11DD668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C94DF-9609-4B4E-9956-606F19D1E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86E6F6-FF0A-45E1-9437-47CDCFE75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EECFA9-6A70-40D4-8AAA-A47BE84D7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D292CB-BC60-431E-A355-1D45991A4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DBE8FF-2F22-453B-9EDE-AE99647B2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DBCFE1-26B7-4392-A7C0-F780ACEB4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B99258-741A-438E-9998-583D6DDE6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076625-EDED-4F99-A5B4-EDDB6D134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798311-3DF3-4710-B7C9-B654AB749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1C68A3-0750-4BF7-BFA9-0E040AC47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626E00-A019-4031-8792-D86C1C750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3EF1A-09CD-4C76-94F9-67A86D2D5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585CAF-3C7F-4931-8963-8FBED9A91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0C831B-8125-4E79-AE02-BFB97A9F4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D7D388-A519-41A8-9BB4-CE0F918BC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A40A3A-8900-4AA4-BC82-FF0F25620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B666DB-16D9-445F-B321-2D1987D17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A3BDE3-DA55-43AF-A80E-D361BAA2A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24DFCE-F45E-4EA5-84C6-78BA88786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A96F04-4BDF-4263-820B-A69FB71D3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3BBD2C-54F6-4AF7-805C-4A12BF67C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984C9C-3C85-4810-86BC-891E9F865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7C3B7-887C-47B2-A9B4-896D50B47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8997BB-3CE8-486D-AB88-FE622A7EE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A2D232-0C46-454F-B8E3-7C4DF27BC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055E07-DBA1-4167-92DF-EFA1A92CD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358458-0CE2-44C5-97FF-D01636726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47C786-E228-41DA-A165-7BC47E82D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31AA66-D50E-4338-A607-B1D0D1B9F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3A9BA4-F74A-41EA-AE37-E20C9AB50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4526A2-1A36-44E1-8B50-834B354C4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830E9B-5745-4945-BEE5-06D375588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2B5182-A18F-4FC3-9719-41CD6D691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64F2E-ADE0-4D61-9C99-D6184EA15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172F20-C37B-484D-A0FB-D830CD8B5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7CBAF0-EFB2-4D67-AAD5-2168F0C64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22162B-EB1D-4146-A9A6-8F2BF006F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F13A54-2D3F-4EF8-B050-F4DFAE740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76008B-618D-4E8F-901A-1C76A4E67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57AD16-3379-4E30-96E9-E7910D214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08BBCD-A458-4028-80C6-BACCCE9D7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F9460F-6838-4D43-A9DD-9B2705E00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5A3E04-A689-4C67-B9C4-73044BAFA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618F3F-422C-4AE5-9CAB-FC442BC1F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D4C23-65D4-4963-97F1-31496BD1E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153B04-EE74-4587-95DC-878CFAF82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0A4643-B41C-4FB2-8144-72B223655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51CEDE-F1AC-4859-9999-5151EE99F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C66642-5E6F-4DC5-BBB2-FFFDC7C3E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931D3B-B12D-4F6F-8212-EB564F776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DA4F6D-4402-4334-828A-EAC5F75B5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DB7EC1-C70B-467B-B5B4-F60B33703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958433-99FB-4BD8-9101-CCF589C1E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CB2F43-E5C5-4B49-ADDA-291993564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F379F1-D279-4CDC-9484-1B77BE0F7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595BE-DBD4-473F-8C50-1AD4277D1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A7B5E7-562E-4B71-B5A4-4EA57F862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29234D-A875-4D9E-9482-493CE4C01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E968F3-EFB2-483A-99F0-6A888B5E2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2D3FB0-41D3-4E63-BB1B-5BD1E051F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BA378A-478F-4C05-93E7-DD5210037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3096E-B334-440B-BFA0-51F199E28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3f3f3f"/>
                </a:solidFill>
                <a:latin typeface="Corbel"/>
                <a:ea typeface="HY엽서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3f3f3f"/>
                </a:solidFill>
                <a:latin typeface="Corbel"/>
                <a:ea typeface="HY엽서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3f3f3f"/>
                </a:solidFill>
                <a:latin typeface="Corbel"/>
                <a:ea typeface="HY엽서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3A128-834B-4D06-87AB-C7E20EC493A5}" type="slidenum">
              <a:rPr b="0" lang="ko-KR" sz="1200" spc="-1" strike="noStrike">
                <a:solidFill>
                  <a:srgbClr val="3f3f3f"/>
                </a:solidFill>
                <a:latin typeface="Corbel"/>
                <a:ea typeface="HY엽서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직사각형 8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직사각형 10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Corbel"/>
                <a:ea typeface="HY엽서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Corbel"/>
                <a:ea typeface="HY엽서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Corbel"/>
                <a:ea typeface="HY엽서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DE180-CBF6-4256-BE73-490EE3B624AF}" type="slidenum">
              <a:rPr b="0" lang="ko-KR" sz="1200" spc="-1" strike="noStrike">
                <a:solidFill>
                  <a:srgbClr val="ffffff"/>
                </a:solidFill>
                <a:latin typeface="Corbel"/>
                <a:ea typeface="HY엽서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직사각형 8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10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Corbel"/>
                <a:ea typeface="HY엽서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Corbel"/>
                <a:ea typeface="HY엽서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Corbel"/>
                <a:ea typeface="HY엽서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74E69-8B2F-4D23-9C6B-E3C8C1E40380}" type="slidenum">
              <a:rPr b="0" lang="ko-KR" sz="1200" spc="-1" strike="noStrike">
                <a:solidFill>
                  <a:srgbClr val="ffffff"/>
                </a:solidFill>
                <a:latin typeface="Corbel"/>
                <a:ea typeface="HY엽서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3f3f3f"/>
                </a:solidFill>
                <a:latin typeface="Corbel"/>
                <a:ea typeface="HY엽서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3f3f3f"/>
                </a:solidFill>
                <a:latin typeface="Corbel"/>
                <a:ea typeface="HY엽서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3f3f3f"/>
                </a:solidFill>
                <a:latin typeface="Corbel"/>
                <a:ea typeface="HY엽서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707C4-25F5-462F-9406-E65F07ACB157}" type="slidenum">
              <a:rPr b="0" lang="ko-KR" sz="1200" spc="-1" strike="noStrike">
                <a:solidFill>
                  <a:srgbClr val="3f3f3f"/>
                </a:solidFill>
                <a:latin typeface="Corbel"/>
                <a:ea typeface="HY엽서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직사각형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직사각형 8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3" name="직사각형 10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3f3f3f"/>
                </a:solidFill>
                <a:latin typeface="Corbel"/>
                <a:ea typeface="HY엽서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3f3f3f"/>
                </a:solidFill>
                <a:latin typeface="Corbel"/>
                <a:ea typeface="HY엽서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3f3f3f"/>
                </a:solidFill>
                <a:latin typeface="Corbel"/>
                <a:ea typeface="HY엽서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3B6FA-484B-42BB-AAA9-4C180A1F2A75}" type="slidenum">
              <a:rPr b="0" lang="ko-KR" sz="1200" spc="-1" strike="noStrike">
                <a:solidFill>
                  <a:srgbClr val="3f3f3f"/>
                </a:solidFill>
                <a:latin typeface="Corbel"/>
                <a:ea typeface="HY엽서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직사각형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6" name="직사각형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직사각형 8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8" name="직사각형 10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3f3f3f"/>
                </a:solidFill>
                <a:latin typeface="Corbel"/>
                <a:ea typeface="HY엽서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3f3f3f"/>
                </a:solidFill>
                <a:latin typeface="Corbel"/>
                <a:ea typeface="HY엽서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3f3f3f"/>
                </a:solidFill>
                <a:latin typeface="Corbel"/>
                <a:ea typeface="HY엽서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1863A-98F1-43AD-BCAE-55D2B31D244C}" type="slidenum">
              <a:rPr b="0" lang="ko-KR" sz="1200" spc="-1" strike="noStrike">
                <a:solidFill>
                  <a:srgbClr val="3f3f3f"/>
                </a:solidFill>
                <a:latin typeface="Corbel"/>
                <a:ea typeface="HY엽서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직사각형 8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1" name="직사각형 10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3f3f3f"/>
                </a:solidFill>
                <a:latin typeface="Corbel"/>
                <a:ea typeface="HY엽서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3f3f3f"/>
                </a:solidFill>
                <a:latin typeface="Corbel"/>
                <a:ea typeface="HY엽서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3f3f3f"/>
                </a:solidFill>
                <a:latin typeface="Corbel"/>
                <a:ea typeface="HY엽서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747C9-9897-4F09-9BFF-51D7B14D1CFC}" type="slidenum">
              <a:rPr b="0" lang="ko-KR" sz="1200" spc="-1" strike="noStrike">
                <a:solidFill>
                  <a:srgbClr val="3f3f3f"/>
                </a:solidFill>
                <a:latin typeface="Corbel"/>
                <a:ea typeface="HY엽서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제목 3" descr=""/>
          <p:cNvPicPr/>
          <p:nvPr/>
        </p:nvPicPr>
        <p:blipFill>
          <a:blip r:embed="rId1"/>
          <a:stretch/>
        </p:blipFill>
        <p:spPr>
          <a:xfrm>
            <a:off x="219240" y="-6480"/>
            <a:ext cx="8474040" cy="142740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rbel"/>
              </a:rPr>
              <a:t>2-1. Sample Types &amp; Considering Factors for Collection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80000"/>
              </a:lnSpc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orbel"/>
              </a:rPr>
              <a:t>Sample Types: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73240">
              <a:lnSpc>
                <a:spcPct val="80000"/>
              </a:lnSpc>
              <a:spcBef>
                <a:spcPts val="425"/>
              </a:spcBef>
              <a:buClr>
                <a:srgbClr val="e66c7d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rbel"/>
              </a:rPr>
              <a:t>According to the physical conditions ; solid, liquid, or gas samples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73240">
              <a:lnSpc>
                <a:spcPct val="80000"/>
              </a:lnSpc>
              <a:spcBef>
                <a:spcPts val="425"/>
              </a:spcBef>
              <a:buClr>
                <a:srgbClr val="e66c7d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rbel"/>
              </a:rPr>
              <a:t>According to the representativeness; bulk, partial, or mixed samples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73240">
              <a:lnSpc>
                <a:spcPct val="80000"/>
              </a:lnSpc>
              <a:spcBef>
                <a:spcPts val="425"/>
              </a:spcBef>
              <a:buClr>
                <a:srgbClr val="e66c7d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rbel"/>
              </a:rPr>
              <a:t>According to the conventional names; Rock, soil, stream water, groundwater, coal, plant, food etc.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73240">
              <a:lnSpc>
                <a:spcPct val="80000"/>
              </a:lnSpc>
              <a:spcBef>
                <a:spcPts val="425"/>
              </a:spcBef>
              <a:buClr>
                <a:srgbClr val="e66c7d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73240">
              <a:lnSpc>
                <a:spcPct val="80000"/>
              </a:lnSpc>
              <a:spcBef>
                <a:spcPts val="425"/>
              </a:spcBef>
              <a:buClr>
                <a:srgbClr val="e66c7d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80000"/>
              </a:lnSpc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orbel"/>
              </a:rPr>
              <a:t>Considering Factors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73240">
              <a:lnSpc>
                <a:spcPct val="80000"/>
              </a:lnSpc>
              <a:spcBef>
                <a:spcPts val="425"/>
              </a:spcBef>
              <a:buClr>
                <a:srgbClr val="e66c7d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Corbel"/>
              </a:rPr>
              <a:t>The essential requisite for the sample is the </a:t>
            </a:r>
            <a:r>
              <a:rPr b="1" lang="en-US" sz="1700" spc="-1" strike="noStrike">
                <a:solidFill>
                  <a:srgbClr val="ff0000"/>
                </a:solidFill>
                <a:latin typeface="Corbel"/>
              </a:rPr>
              <a:t>representativeness</a:t>
            </a:r>
            <a:r>
              <a:rPr b="0" lang="en-US" sz="1700" spc="-1" strike="noStrike">
                <a:solidFill>
                  <a:srgbClr val="000000"/>
                </a:solidFill>
                <a:latin typeface="Corbel"/>
              </a:rPr>
              <a:t> of the object of sampling.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73240">
              <a:lnSpc>
                <a:spcPct val="80000"/>
              </a:lnSpc>
              <a:spcBef>
                <a:spcPts val="425"/>
              </a:spcBef>
              <a:buClr>
                <a:srgbClr val="e66c7d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rbel"/>
              </a:rPr>
              <a:t>Then, consider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lvl="3" marL="1400040" indent="-457200">
              <a:lnSpc>
                <a:spcPct val="80000"/>
              </a:lnSpc>
              <a:spcBef>
                <a:spcPts val="349"/>
              </a:spcBef>
              <a:buClr>
                <a:srgbClr val="6bb76d"/>
              </a:buClr>
              <a:buFont typeface="Corbe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Purpose of sampling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lvl="3" marL="1400040" indent="-457200">
              <a:lnSpc>
                <a:spcPct val="80000"/>
              </a:lnSpc>
              <a:spcBef>
                <a:spcPts val="349"/>
              </a:spcBef>
              <a:buClr>
                <a:srgbClr val="6bb76d"/>
              </a:buClr>
              <a:buFont typeface="Corbe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Budget  for  the analysis 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lvl="3" marL="1400040" indent="-457200">
              <a:lnSpc>
                <a:spcPct val="80000"/>
              </a:lnSpc>
              <a:spcBef>
                <a:spcPts val="349"/>
              </a:spcBef>
              <a:buClr>
                <a:srgbClr val="6bb76d"/>
              </a:buClr>
              <a:buFont typeface="Corbe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Characteristics (Types) of the samples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80000"/>
              </a:lnSpc>
              <a:spcBef>
                <a:spcPts val="3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Picture 5" descr="VAN_VEEN"/>
          <p:cNvPicPr/>
          <p:nvPr/>
        </p:nvPicPr>
        <p:blipFill>
          <a:blip r:embed="rId1"/>
          <a:stretch/>
        </p:blipFill>
        <p:spPr>
          <a:xfrm>
            <a:off x="179280" y="0"/>
            <a:ext cx="4284720" cy="413712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7" descr="tools_vanveen_en_162213"/>
          <p:cNvPicPr/>
          <p:nvPr/>
        </p:nvPicPr>
        <p:blipFill>
          <a:blip r:embed="rId2"/>
          <a:stretch/>
        </p:blipFill>
        <p:spPr>
          <a:xfrm>
            <a:off x="179280" y="3860640"/>
            <a:ext cx="3048120" cy="280044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9" descr="alpinevirbracore2"/>
          <p:cNvPicPr/>
          <p:nvPr/>
        </p:nvPicPr>
        <p:blipFill>
          <a:blip r:embed="rId3"/>
          <a:stretch/>
        </p:blipFill>
        <p:spPr>
          <a:xfrm>
            <a:off x="3419640" y="2852640"/>
            <a:ext cx="2743200" cy="350532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11" descr="K-B"/>
          <p:cNvPicPr/>
          <p:nvPr/>
        </p:nvPicPr>
        <p:blipFill>
          <a:blip r:embed="rId4"/>
          <a:stretch/>
        </p:blipFill>
        <p:spPr>
          <a:xfrm>
            <a:off x="6227640" y="836640"/>
            <a:ext cx="255276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lvl="1" marL="730080" indent="-272880">
              <a:lnSpc>
                <a:spcPct val="80000"/>
              </a:lnSpc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rbel"/>
              </a:rPr>
              <a:t>3-4-3. Sampling Design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Mostly depends on the distribution of the sediments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80000"/>
              </a:lnSpc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rbel"/>
              </a:rPr>
              <a:t>3-3-4. Treatment of Soil Samples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Very similar to the soil sample treatment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Size fractionation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6" name="제목 3"/>
          <p:cNvSpPr/>
          <p:nvPr/>
        </p:nvSpPr>
        <p:spPr>
          <a:xfrm>
            <a:off x="457200" y="155520"/>
            <a:ext cx="822960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c800"/>
                </a:solidFill>
                <a:latin typeface="Corbel"/>
                <a:ea typeface="HY엽서L"/>
              </a:rPr>
              <a:t>Ch. 3. SAMPLE COLLECTION &amp; TREATMENTS</a:t>
            </a:r>
            <a:endParaRPr b="0" lang="en-US" sz="41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rbel"/>
              </a:rPr>
              <a:t>3-5. Rock Sample Collection &amp; Preparation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80000"/>
              </a:lnSpc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rbel"/>
              </a:rPr>
              <a:t>3-4-1. General Considering Factors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Rock types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Weathering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Grain size: generally sample size should be 60 times larger than the grain size ex) &lt;1/16cm </a:t>
            </a:r>
            <a:r>
              <a:rPr b="0" i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 3*4*1 cm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Structure &amp; texture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Others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80000"/>
              </a:lnSpc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rbel"/>
              </a:rPr>
              <a:t>3-4-2. Collection Methods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Hammer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Core sampler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Chiesle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80000"/>
              </a:lnSpc>
              <a:spcBef>
                <a:spcPts val="45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8" name="제목 3"/>
          <p:cNvSpPr/>
          <p:nvPr/>
        </p:nvSpPr>
        <p:spPr>
          <a:xfrm>
            <a:off x="457200" y="155520"/>
            <a:ext cx="822960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c800"/>
                </a:solidFill>
                <a:latin typeface="Corbel"/>
                <a:ea typeface="HY엽서L"/>
              </a:rPr>
              <a:t>Ch. 3. SAMPLE COLLECTION &amp; TREATMENTS</a:t>
            </a:r>
            <a:endParaRPr b="0" lang="en-US" sz="41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제목 3" descr=""/>
          <p:cNvPicPr/>
          <p:nvPr/>
        </p:nvPicPr>
        <p:blipFill>
          <a:blip r:embed="rId1"/>
          <a:stretch/>
        </p:blipFill>
        <p:spPr>
          <a:xfrm>
            <a:off x="219240" y="-6480"/>
            <a:ext cx="8474040" cy="1427400"/>
          </a:xfrm>
          <a:prstGeom prst="rect">
            <a:avLst/>
          </a:prstGeom>
          <a:ln w="0">
            <a:noFill/>
          </a:ln>
        </p:spPr>
      </p:pic>
      <p:sp>
        <p:nvSpPr>
          <p:cNvPr id="306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rbel"/>
              </a:rPr>
              <a:t>2-2. Collection &amp; Pretreatment of Water Samples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80000"/>
              </a:lnSpc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orbel"/>
              </a:rPr>
              <a:t>Water samples?: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73240">
              <a:lnSpc>
                <a:spcPct val="80000"/>
              </a:lnSpc>
              <a:spcBef>
                <a:spcPts val="425"/>
              </a:spcBef>
              <a:buClr>
                <a:srgbClr val="e66c7d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rbel"/>
              </a:rPr>
              <a:t>Surface water (Streams, lakes, springs, etc.)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73240">
              <a:lnSpc>
                <a:spcPct val="80000"/>
              </a:lnSpc>
              <a:spcBef>
                <a:spcPts val="425"/>
              </a:spcBef>
              <a:buClr>
                <a:srgbClr val="e66c7d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rbel"/>
              </a:rPr>
              <a:t>Groundwater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73240">
              <a:lnSpc>
                <a:spcPct val="80000"/>
              </a:lnSpc>
              <a:spcBef>
                <a:spcPts val="425"/>
              </a:spcBef>
              <a:buClr>
                <a:srgbClr val="e66c7d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rbel"/>
              </a:rPr>
              <a:t>Meteoric water (rain, snow, fog, etc)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73240">
              <a:lnSpc>
                <a:spcPct val="80000"/>
              </a:lnSpc>
              <a:spcBef>
                <a:spcPts val="425"/>
              </a:spcBef>
              <a:buClr>
                <a:srgbClr val="e66c7d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rbel"/>
              </a:rPr>
              <a:t>Others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7324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80000"/>
              </a:lnSpc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orbel"/>
              </a:rPr>
              <a:t>Considering factors of water sampling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73240">
              <a:lnSpc>
                <a:spcPct val="80000"/>
              </a:lnSpc>
              <a:spcBef>
                <a:spcPts val="425"/>
              </a:spcBef>
              <a:buClr>
                <a:srgbClr val="e66c7d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Corbel"/>
              </a:rPr>
              <a:t>Variable properties responding to a number of surrounding conditions such as T, P, time, biota, geology, etc.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73240">
              <a:lnSpc>
                <a:spcPct val="80000"/>
              </a:lnSpc>
              <a:spcBef>
                <a:spcPts val="425"/>
              </a:spcBef>
              <a:buClr>
                <a:srgbClr val="e66c7d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rbel"/>
              </a:rPr>
              <a:t>Should consider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lvl="3" marL="1400040" indent="-457200">
              <a:lnSpc>
                <a:spcPct val="80000"/>
              </a:lnSpc>
              <a:spcBef>
                <a:spcPts val="349"/>
              </a:spcBef>
              <a:buClr>
                <a:srgbClr val="6bb76d"/>
              </a:buClr>
              <a:buFont typeface="Corbe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Water type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lvl="3" marL="1400040" indent="-457200">
              <a:lnSpc>
                <a:spcPct val="80000"/>
              </a:lnSpc>
              <a:spcBef>
                <a:spcPts val="349"/>
              </a:spcBef>
              <a:buClr>
                <a:srgbClr val="6bb76d"/>
              </a:buClr>
              <a:buFont typeface="Corbe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Parameters measured in the field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lvl="3" marL="1400040" indent="-457200">
              <a:lnSpc>
                <a:spcPct val="80000"/>
              </a:lnSpc>
              <a:spcBef>
                <a:spcPts val="349"/>
              </a:spcBef>
              <a:buClr>
                <a:srgbClr val="6bb76d"/>
              </a:buClr>
              <a:buFont typeface="Corbe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Required pretreatment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lvl="3" marL="1400040" indent="-457200">
              <a:lnSpc>
                <a:spcPct val="80000"/>
              </a:lnSpc>
              <a:spcBef>
                <a:spcPts val="349"/>
              </a:spcBef>
              <a:buClr>
                <a:srgbClr val="6bb76d"/>
              </a:buClr>
              <a:buFont typeface="Corbe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Geological &amp; Hydrological conditions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lvl="3" marL="1400040" indent="-457200">
              <a:lnSpc>
                <a:spcPct val="80000"/>
              </a:lnSpc>
              <a:spcBef>
                <a:spcPts val="349"/>
              </a:spcBef>
              <a:buClr>
                <a:srgbClr val="6bb76d"/>
              </a:buClr>
              <a:buFont typeface="Corbe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Temporal &amp; spatial variation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lvl="3" marL="1400040" indent="-457200">
              <a:lnSpc>
                <a:spcPct val="80000"/>
              </a:lnSpc>
              <a:spcBef>
                <a:spcPts val="349"/>
              </a:spcBef>
              <a:buClr>
                <a:srgbClr val="6bb76d"/>
              </a:buClr>
              <a:buFont typeface="Corbe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Others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80000"/>
              </a:lnSpc>
              <a:spcBef>
                <a:spcPts val="3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제목 3" descr=""/>
          <p:cNvPicPr/>
          <p:nvPr/>
        </p:nvPicPr>
        <p:blipFill>
          <a:blip r:embed="rId1"/>
          <a:stretch/>
        </p:blipFill>
        <p:spPr>
          <a:xfrm>
            <a:off x="219240" y="-6480"/>
            <a:ext cx="8474040" cy="14274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 txBox="1"/>
          <p:nvPr/>
        </p:nvSpPr>
        <p:spPr>
          <a:xfrm>
            <a:off x="457200" y="1774440"/>
            <a:ext cx="2890800" cy="158292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lvl="1" marL="730080" indent="-272880">
              <a:lnSpc>
                <a:spcPct val="80000"/>
              </a:lnSpc>
              <a:spcBef>
                <a:spcPts val="55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Corbel"/>
              </a:rPr>
              <a:t>Methods: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73240">
              <a:lnSpc>
                <a:spcPct val="80000"/>
              </a:lnSpc>
              <a:spcBef>
                <a:spcPts val="476"/>
              </a:spcBef>
              <a:buClr>
                <a:srgbClr val="e66c7d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rbel"/>
              </a:rPr>
              <a:t>Scooping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73240">
              <a:lnSpc>
                <a:spcPct val="80000"/>
              </a:lnSpc>
              <a:spcBef>
                <a:spcPts val="476"/>
              </a:spcBef>
              <a:buClr>
                <a:srgbClr val="e66c7d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rbel"/>
              </a:rPr>
              <a:t>Grab sampling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73240">
              <a:lnSpc>
                <a:spcPct val="80000"/>
              </a:lnSpc>
              <a:spcBef>
                <a:spcPts val="476"/>
              </a:spcBef>
              <a:buClr>
                <a:srgbClr val="e66c7d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rbel"/>
              </a:rPr>
              <a:t>Bailor / Bomb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73240">
              <a:lnSpc>
                <a:spcPct val="80000"/>
              </a:lnSpc>
              <a:spcBef>
                <a:spcPts val="476"/>
              </a:spcBef>
              <a:buClr>
                <a:srgbClr val="e66c7d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rbel"/>
              </a:rPr>
              <a:t>Pumping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7324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80000"/>
              </a:lnSpc>
              <a:spcBef>
                <a:spcPts val="476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09" name="Picture 2" descr="http://www.korearth.net/lecture/geochem/gchem_anal/ch03/w_scoop.jpg"/>
          <p:cNvPicPr/>
          <p:nvPr/>
        </p:nvPicPr>
        <p:blipFill>
          <a:blip r:embed="rId2"/>
          <a:stretch/>
        </p:blipFill>
        <p:spPr>
          <a:xfrm>
            <a:off x="3419640" y="1773360"/>
            <a:ext cx="1285560" cy="128592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6" descr="http://www.korearth.net/lecture/geochem/gchem_anal/ch03/bailer1.gif"/>
          <p:cNvPicPr/>
          <p:nvPr/>
        </p:nvPicPr>
        <p:blipFill>
          <a:blip r:embed="rId3"/>
          <a:stretch/>
        </p:blipFill>
        <p:spPr>
          <a:xfrm>
            <a:off x="3059280" y="2997360"/>
            <a:ext cx="1820520" cy="369864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8" descr="http://www.korearth.net/lecture/geochem/gchem_anal/ch03/w_bomb.gif"/>
          <p:cNvPicPr/>
          <p:nvPr/>
        </p:nvPicPr>
        <p:blipFill>
          <a:blip r:embed="rId4"/>
          <a:stretch/>
        </p:blipFill>
        <p:spPr>
          <a:xfrm>
            <a:off x="826920" y="3573360"/>
            <a:ext cx="2219400" cy="274320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10" descr="http://www.korearth.net/lecture/geochem/gchem_anal/ch03/s_pump2.jpg"/>
          <p:cNvPicPr/>
          <p:nvPr/>
        </p:nvPicPr>
        <p:blipFill>
          <a:blip r:embed="rId5"/>
          <a:stretch/>
        </p:blipFill>
        <p:spPr>
          <a:xfrm>
            <a:off x="6084720" y="3716280"/>
            <a:ext cx="2876760" cy="291456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4" descr="http://www.korearth.net/lecture/geochem/gchem_anal/ch03/w_grab.jpg"/>
          <p:cNvPicPr/>
          <p:nvPr/>
        </p:nvPicPr>
        <p:blipFill>
          <a:blip r:embed="rId6"/>
          <a:stretch/>
        </p:blipFill>
        <p:spPr>
          <a:xfrm>
            <a:off x="4859280" y="1844640"/>
            <a:ext cx="2376720" cy="275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제목 3" descr=""/>
          <p:cNvPicPr/>
          <p:nvPr/>
        </p:nvPicPr>
        <p:blipFill>
          <a:blip r:embed="rId1"/>
          <a:stretch/>
        </p:blipFill>
        <p:spPr>
          <a:xfrm>
            <a:off x="219240" y="-6480"/>
            <a:ext cx="8474040" cy="142740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 txBox="1"/>
          <p:nvPr/>
        </p:nvSpPr>
        <p:spPr>
          <a:xfrm>
            <a:off x="457200" y="1774800"/>
            <a:ext cx="8229600" cy="201456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lvl="1" marL="730080" indent="-272880">
              <a:lnSpc>
                <a:spcPct val="80000"/>
              </a:lnSpc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rbel"/>
              </a:rPr>
              <a:t>Pretreatments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73240">
              <a:lnSpc>
                <a:spcPct val="80000"/>
              </a:lnSpc>
              <a:spcBef>
                <a:spcPts val="499"/>
              </a:spcBef>
              <a:buClr>
                <a:srgbClr val="e66c7d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rbel"/>
              </a:rPr>
              <a:t>Filtration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; Removal of SS &amp; (microbes),  with 0.1, 0.2 or 0.45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m pore membrane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73240">
              <a:lnSpc>
                <a:spcPct val="80000"/>
              </a:lnSpc>
              <a:spcBef>
                <a:spcPts val="499"/>
              </a:spcBef>
              <a:buClr>
                <a:srgbClr val="e66c7d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rbel"/>
              </a:rPr>
              <a:t>Acidification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; Prohibiting pptn of the DS, with HNO3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73240">
              <a:lnSpc>
                <a:spcPct val="80000"/>
              </a:lnSpc>
              <a:spcBef>
                <a:spcPts val="499"/>
              </a:spcBef>
              <a:buClr>
                <a:srgbClr val="e66c7d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rbel"/>
              </a:rPr>
              <a:t>Sterilization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; Killing all the microbes, with HgCl2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73240">
              <a:lnSpc>
                <a:spcPct val="80000"/>
              </a:lnSpc>
              <a:spcBef>
                <a:spcPts val="499"/>
              </a:spcBef>
              <a:buClr>
                <a:srgbClr val="e66c7d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rbel"/>
              </a:rPr>
              <a:t>Refrigeration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; Supress microbial activity at 4C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732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16" name="Picture 2" descr="http://www.korearth.net/lecture/geochem/gchem_anal/ch03/filter_app.jpg"/>
          <p:cNvPicPr/>
          <p:nvPr/>
        </p:nvPicPr>
        <p:blipFill>
          <a:blip r:embed="rId2"/>
          <a:stretch/>
        </p:blipFill>
        <p:spPr>
          <a:xfrm>
            <a:off x="1476360" y="3716280"/>
            <a:ext cx="3017880" cy="301788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4" descr="http://www.korearth.net/lecture/geochem/gchem_anal/ch03/hand_vac.jpg"/>
          <p:cNvPicPr/>
          <p:nvPr/>
        </p:nvPicPr>
        <p:blipFill>
          <a:blip r:embed="rId3"/>
          <a:stretch/>
        </p:blipFill>
        <p:spPr>
          <a:xfrm>
            <a:off x="4500720" y="3860640"/>
            <a:ext cx="3914640" cy="23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rbel"/>
              </a:rPr>
              <a:t>3-3. Soil Sample Collection &amp; Preparation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80000"/>
              </a:lnSpc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rbel"/>
              </a:rPr>
              <a:t>3-3-1. General Considering Factors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Soil types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Soil profiles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Parents &amp; local geology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Plantation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Land uses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Others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80000"/>
              </a:lnSpc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rbel"/>
              </a:rPr>
              <a:t>3-3-2. Collection Methods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Shovels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Soil core sampler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Auger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Soil moisture sampler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Customized personalized devices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80000"/>
              </a:lnSpc>
              <a:spcBef>
                <a:spcPts val="45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19" name="제목 3" descr=""/>
          <p:cNvPicPr/>
          <p:nvPr/>
        </p:nvPicPr>
        <p:blipFill>
          <a:blip r:embed="rId1"/>
          <a:stretch/>
        </p:blipFill>
        <p:spPr>
          <a:xfrm>
            <a:off x="219240" y="-6480"/>
            <a:ext cx="8474040" cy="142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Picture 4" descr="hand1_l-soil-sampling-auger-water-level"/>
          <p:cNvPicPr/>
          <p:nvPr/>
        </p:nvPicPr>
        <p:blipFill>
          <a:blip r:embed="rId1"/>
          <a:stretch/>
        </p:blipFill>
        <p:spPr>
          <a:xfrm>
            <a:off x="250920" y="260280"/>
            <a:ext cx="4286160" cy="432432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6" descr="10_b"/>
          <p:cNvPicPr/>
          <p:nvPr/>
        </p:nvPicPr>
        <p:blipFill>
          <a:blip r:embed="rId2"/>
          <a:stretch/>
        </p:blipFill>
        <p:spPr>
          <a:xfrm>
            <a:off x="395280" y="4000680"/>
            <a:ext cx="1905120" cy="285732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8" descr="23_Soil-Sampling_3col"/>
          <p:cNvPicPr/>
          <p:nvPr/>
        </p:nvPicPr>
        <p:blipFill>
          <a:blip r:embed="rId3"/>
          <a:stretch/>
        </p:blipFill>
        <p:spPr>
          <a:xfrm>
            <a:off x="4714920" y="404640"/>
            <a:ext cx="4429080" cy="281016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10" descr="VL_sampler"/>
          <p:cNvPicPr/>
          <p:nvPr/>
        </p:nvPicPr>
        <p:blipFill>
          <a:blip r:embed="rId4"/>
          <a:stretch/>
        </p:blipFill>
        <p:spPr>
          <a:xfrm>
            <a:off x="3851280" y="3408480"/>
            <a:ext cx="5087880" cy="34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lvl="1" marL="730080" indent="-272880">
              <a:lnSpc>
                <a:spcPct val="80000"/>
              </a:lnSpc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rbel"/>
              </a:rPr>
              <a:t>3-3-3. Sampling Design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Grid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Barbell cluster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Nested Cell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Stratified vs. unstratified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80000"/>
              </a:lnSpc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rbel"/>
              </a:rPr>
              <a:t>3-3-4. Treatment of Soil Samples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Drying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Sieving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Removal of organics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Grinding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5" name="제목 3"/>
          <p:cNvSpPr/>
          <p:nvPr/>
        </p:nvSpPr>
        <p:spPr>
          <a:xfrm>
            <a:off x="457200" y="155520"/>
            <a:ext cx="822960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c800"/>
                </a:solidFill>
                <a:latin typeface="Corbel"/>
                <a:ea typeface="HY엽서L"/>
              </a:rPr>
              <a:t>Ch. 3. SAMPLE COLLECTION &amp; TREATMENTS</a:t>
            </a:r>
            <a:endParaRPr b="0" lang="en-US" sz="41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Picture 4" descr="image008"/>
          <p:cNvPicPr/>
          <p:nvPr/>
        </p:nvPicPr>
        <p:blipFill>
          <a:blip r:embed="rId1"/>
          <a:stretch/>
        </p:blipFill>
        <p:spPr>
          <a:xfrm>
            <a:off x="684360" y="1989000"/>
            <a:ext cx="3744720" cy="304488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6" descr="mt89illust1"/>
          <p:cNvPicPr/>
          <p:nvPr/>
        </p:nvPicPr>
        <p:blipFill>
          <a:blip r:embed="rId2"/>
          <a:stretch/>
        </p:blipFill>
        <p:spPr>
          <a:xfrm>
            <a:off x="5364000" y="2060640"/>
            <a:ext cx="2305080" cy="2305080"/>
          </a:xfrm>
          <a:prstGeom prst="rect">
            <a:avLst/>
          </a:prstGeom>
          <a:ln w="0">
            <a:noFill/>
          </a:ln>
        </p:spPr>
      </p:pic>
      <p:sp>
        <p:nvSpPr>
          <p:cNvPr id="328" name="제목 3"/>
          <p:cNvSpPr/>
          <p:nvPr/>
        </p:nvSpPr>
        <p:spPr>
          <a:xfrm>
            <a:off x="457200" y="155520"/>
            <a:ext cx="822960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c800"/>
                </a:solidFill>
                <a:latin typeface="Corbel"/>
                <a:ea typeface="HY엽서L"/>
              </a:rPr>
              <a:t>Ch. 3. SAMPLE COLLECTION &amp; TREATMENTS</a:t>
            </a:r>
            <a:endParaRPr b="0" lang="en-US" sz="41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rbel"/>
              </a:rPr>
              <a:t>3-4. Sediment Sample Collection &amp; Preparation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80000"/>
              </a:lnSpc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rbel"/>
              </a:rPr>
              <a:t>3-4-1. General Considering Factors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Spatial (horizontal) variation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Vertical (depth) variation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Size distribution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Temporal variation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Sedimentation mechanism (sedimentation media)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Disturbance by sampling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Parental rock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80000"/>
              </a:lnSpc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rbel"/>
              </a:rPr>
              <a:t>3-4-2. Collection Methods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Grab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Core sampler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Customized personalized devices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80000"/>
              </a:lnSpc>
              <a:spcBef>
                <a:spcPts val="45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0" name="제목 3"/>
          <p:cNvSpPr/>
          <p:nvPr/>
        </p:nvSpPr>
        <p:spPr>
          <a:xfrm>
            <a:off x="457200" y="155520"/>
            <a:ext cx="822960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c800"/>
                </a:solidFill>
                <a:latin typeface="Corbel"/>
                <a:ea typeface="HY엽서L"/>
              </a:rPr>
              <a:t>Ch. 3. SAMPLE COLLECTION &amp; TREATMENTS</a:t>
            </a:r>
            <a:endParaRPr b="0" lang="en-US" sz="41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4T11:44:53Z</dcterms:created>
  <dc:creator>user</dc:creator>
  <dc:description/>
  <dc:language>en-US</dc:language>
  <cp:lastModifiedBy>user</cp:lastModifiedBy>
  <dcterms:modified xsi:type="dcterms:W3CDTF">2011-11-14T23:57:18Z</dcterms:modified>
  <cp:revision>27</cp:revision>
  <dc:subject/>
  <dc:title>Ch. 2. BASICS of GEOCHEMICAL ANALYSIS</dc:title>
</cp:coreProperties>
</file>